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979-0416-4B84-BE73-D6251BFC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AE1-D0AA-478C-AFA0-C7208CB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F17-218B-4766-9491-76D4956B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9AE-1BDD-4D23-9BC9-EA51A803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BAD6-A252-491E-BBE0-349C3F44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AAAE-DCC2-480B-BB09-8705DF9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98E-CAE9-4785-BD8D-E7CB5655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F62E-90F5-44D1-BCED-0218F576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0B4F-FEA8-48A5-A024-F8AE18C0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9A0F-2D55-46BC-88EA-30256E66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B8E-353E-4F76-825F-759276B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980-EEED-4B0A-8015-C473C75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EA4-1C51-473C-B976-7ED53A7F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1592-042F-4C54-A503-9D2C62E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EF0B-5525-4402-B8DC-7001C84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0274-57CF-4B64-A6D1-10B857CC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B6BF-045A-403B-B691-0E9D2708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0A0-65A2-4BFB-B6A8-4447DD33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CA3-8534-40C5-9E12-AAEC993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988-0D89-4C85-AB48-3C086F7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391-29A1-4665-9319-B1230D1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567-F391-4C1C-B29E-1AF5082A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19E-A5AC-4A77-B5B7-5EE44CED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A7C-F827-445B-90E5-1B1E92A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1A09-5BD3-4655-BECC-BB15737F4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FBD-D640-46B7-A714-462A4EE76B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складских площадок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складских площадок и складов на основании расчетных данных, загружаемых из программного модуля «Складские площад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ввода новых видов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таблицы экспликации размещенных складских площадок и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змещения складских площадок необходимо определить их виды и требующиеся площади. Далее нужно сформировать для выбранного вида складирования список складов с их размерами. Это можно выполнить  как вручную, так и загрузив информацию из модуля «Расчет потребности в складских площадка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52480" y="857160"/>
            <a:ext cx="610416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идов скла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60480" y="57722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бавление видов складов производится из соответствующего технологического справочника. Для выбора сразу нескольких видов складов необходимо отметить их флажк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8560" y="1303200"/>
            <a:ext cx="590724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клад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06400" y="5162400"/>
            <a:ext cx="758988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склада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контура склада (прямоугольник, произвольный, выбрать на чертеж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 (длина и ширина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штриховки склада (не задан, сетка, диагональная), для типов штриховки «Сетка» или «Диагональная» можно изменить масштаб (интервал) штрих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1040" y="1544760"/>
            <a:ext cx="602460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уппы складов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370480"/>
            <a:ext cx="75898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том случае, если количество складов  больше одного, перед размещением группы складов на чертеже имеется возможность дополнительно указать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складов в ряду (по умолчанию все склад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склада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скла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65360" y="1163520"/>
            <a:ext cx="4545000" cy="41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складских площад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893880" y="1762200"/>
            <a:ext cx="7565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3:31Z</dcterms:modified>
  <cp:revision>309</cp:revision>
  <dc:subject/>
  <dc:title>Слайд 1</dc:title>
</cp:coreProperties>
</file>